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5.png" ContentType="image/png"/>
  <Override PartName="/ppt/media/image10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 type="sldNum" idx="12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5776-24AD-4E9E-80B4-AF0CA4DE4CA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D376-1380-4FD9-936B-883159354CB1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6D60-32AB-4074-BF44-E8A7E92C2519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D08A-2620-4E4C-BD53-8DADFBA7B9ED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B5A9-11BA-42B4-87E8-42F0ECC46959}" type="slidenum">
              <a:rPr b="0" lang="en-C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9D2-25B7-41F5-A08C-B2DBB6662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3D6-F14C-4B77-99D7-62CDED13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DD6-F0AC-4935-9BE1-3712407C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3B7-22F0-44D2-991D-334F3039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2635-0485-4939-BC36-A4C967FFC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E017-FD00-45A5-9982-30D9B263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7B28-F469-49B4-9E98-42708CD1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522D-D08B-4A8A-B68E-125DE300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0F80-AA52-454D-A95D-27951A42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629E-0EE0-4FB8-80BF-13243C62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CA45-2526-4BB0-B56A-801BDE7C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23BE-205D-4747-8860-61FE94EE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984B-7F59-451B-9EC2-77B0A3A6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58899-8B52-4474-BEB3-AD0DBE72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80D-E4D1-4DF0-B0D3-CCF47243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1568-C139-4735-A414-49087F1A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6A81E-1438-4859-8D19-36A93C923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B8631-EA1E-415B-B835-0CD31525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4714-0C62-464F-BCBD-1AD352CB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6BE97-F3AF-4023-9BCB-1751C33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4A53-83AE-4DFE-AA13-6C59B69C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C514A-F748-4C4C-83C0-79A6BE30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CCCF-2EAC-4823-88B2-667523C3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A72EA-E911-4D0F-9866-ED57D72C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92EF4-474F-431D-83AC-28BDA01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A056A-99E6-4089-B100-18459AD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9E7D5-9604-4CB4-BE6D-78B2A362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62C67-32AA-483F-832C-00E2C933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74080-81DE-46B2-ABF9-F6797C5F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0CC9-D972-4B14-A25B-1082C46C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F5DE-8CA6-4B0B-A5BE-D06776A7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4F7B-62B7-44CC-95DB-0E9F2003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479-0EE1-4698-A8BB-975EF08D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3EC3-1D80-4A3F-9147-8255B0A9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C5C-7CE9-4609-9E31-D1A98560A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1B07-D49B-4D10-A7DB-516C7650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43B6-6A35-47CF-94A1-DDF346D3B25A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ight Triangle 6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3" name="Freeform 9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11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Freeform 12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46" name="Freeform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48" name="Straight Connector 13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2E82-0C56-46BD-8A06-5AFC33D53D66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reeform 6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Right Triangle 9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3" name="Right Triangle 9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95" name="Straight Connector 11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E76E-0240-4443-B527-4A37D89EE567}" type="slidenum">
              <a:rPr b="0" lang="en-C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1143000" y="1295280"/>
            <a:ext cx="7238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Dichotomous Key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7" descr="http://www.quia.com/files/quia/users/hlrbiology/Honors_Biology/10_Classification/dichotomous_key01.jpg"/>
          <p:cNvPicPr/>
          <p:nvPr/>
        </p:nvPicPr>
        <p:blipFill>
          <a:blip r:embed="rId1"/>
          <a:stretch/>
        </p:blipFill>
        <p:spPr>
          <a:xfrm>
            <a:off x="1905120" y="2514600"/>
            <a:ext cx="57150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www.saskschools.ca/curr_content/biology20/Library/spider_key.gif"/>
          <p:cNvPicPr/>
          <p:nvPr/>
        </p:nvPicPr>
        <p:blipFill>
          <a:blip r:embed="rId1"/>
          <a:stretch/>
        </p:blipFill>
        <p:spPr>
          <a:xfrm>
            <a:off x="304920" y="1028880"/>
            <a:ext cx="8458200" cy="2857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http://www.saskschools.ca/curr_content/biology20/Library/dich_key.gif"/>
          <p:cNvPicPr/>
          <p:nvPr/>
        </p:nvPicPr>
        <p:blipFill>
          <a:blip r:embed="rId2"/>
          <a:srcRect l="0" t="20998" r="0" b="0"/>
          <a:stretch/>
        </p:blipFill>
        <p:spPr>
          <a:xfrm>
            <a:off x="304920" y="4329000"/>
            <a:ext cx="8653320" cy="2452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380880" y="6238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xample of the Graphic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80880" y="3900600"/>
            <a:ext cx="42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Example of the Written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Answe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228600" y="1371600"/>
            <a:ext cx="7924680" cy="57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 u="sng">
                <a:solidFill>
                  <a:srgbClr val="ffffff"/>
                </a:solidFill>
                <a:uFillTx/>
                <a:latin typeface="Lucida Sans Unicode"/>
              </a:rPr>
              <a:t>Part A:Using a Dichotomous Key</a:t>
            </a:r>
            <a:r>
              <a:rPr b="0" lang="en-CA" sz="2700" spc="-1" strike="noStrike">
                <a:solidFill>
                  <a:srgbClr val="ffffff"/>
                </a:solidFill>
                <a:latin typeface="Lucida Sans Unicode"/>
              </a:rPr>
              <a:t>: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CA" sz="2700" spc="-1" strike="noStrike">
                <a:solidFill>
                  <a:srgbClr val="ffffff"/>
                </a:solidFill>
                <a:latin typeface="Lucida Sans Unicode"/>
              </a:rPr>
              <a:t>P. 32 Steps 1-4—individu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Lucida Sans Unicode"/>
              </a:rPr>
              <a:t>Part B:  Constructing a Dichotomous Key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P. 33—alone or with a partne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Lucida Sans Unicode"/>
              </a:rPr>
              <a:t>HWK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:  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1) Complete pgs. 32-33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2) Answer pg. 20#5,6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ffffff"/>
                </a:solidFill>
                <a:latin typeface="Lucida Sans Unicode"/>
              </a:rPr>
              <a:t>This will help you with the evaluation on Dichotomous Keys on </a:t>
            </a:r>
            <a:r>
              <a:rPr b="1" i="1" lang="en-US" sz="2700" spc="-1" strike="noStrike" u="sng">
                <a:solidFill>
                  <a:srgbClr val="ffffff"/>
                </a:solidFill>
                <a:uFillTx/>
                <a:latin typeface="Lucida Sans Unicode"/>
              </a:rPr>
              <a:t>Frida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228600" y="45720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From the textboo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838080"/>
            <a:ext cx="8186760" cy="28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Dichotomous classification keys are used to help place organisms into the appropriate classification group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It is a tool that allows the user to determine the identity of items in the natural world, such as trees, wildflowers, mammals, reptiles, rocks and fis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These keys consist of a series of choices that lead the user to the correct name of a given organis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“</a:t>
            </a:r>
            <a:r>
              <a:rPr b="1" lang="en-CA" sz="2800" spc="-1" strike="noStrike">
                <a:solidFill>
                  <a:srgbClr val="da1f28"/>
                </a:solidFill>
                <a:latin typeface="Lucida Sans Unicode"/>
              </a:rPr>
              <a:t>Dichotomous</a:t>
            </a: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” means “</a:t>
            </a:r>
            <a:r>
              <a:rPr b="1" lang="en-CA" sz="2800" spc="-1" strike="noStrike">
                <a:solidFill>
                  <a:srgbClr val="da1f28"/>
                </a:solidFill>
                <a:latin typeface="Lucida Sans Unicode"/>
              </a:rPr>
              <a:t>cut into 2 parts</a:t>
            </a: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”. Therefore, these keys should always give </a:t>
            </a:r>
            <a:r>
              <a:rPr b="1" lang="en-CA" sz="2800" spc="-1" strike="noStrike">
                <a:solidFill>
                  <a:srgbClr val="da1f28"/>
                </a:solidFill>
                <a:latin typeface="Lucida Sans Unicode"/>
              </a:rPr>
              <a:t>two choices</a:t>
            </a: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 in each ste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55240" indent="-178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itle 3" descr=""/>
          <p:cNvPicPr/>
          <p:nvPr/>
        </p:nvPicPr>
        <p:blipFill>
          <a:blip r:embed="rId1"/>
          <a:stretch/>
        </p:blipFill>
        <p:spPr>
          <a:xfrm>
            <a:off x="231840" y="6480"/>
            <a:ext cx="848520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1026"/>
          <p:cNvSpPr/>
          <p:nvPr/>
        </p:nvSpPr>
        <p:spPr>
          <a:xfrm>
            <a:off x="533520" y="838080"/>
            <a:ext cx="83818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When starting the key, make s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The first step in the key should divide the organisms in roughly half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27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In constructing keys, keep the following in mi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1029" descr="http://3ubio.weebly.com/uploads/1/6/8/1/16813674/7481061_orig.png"/>
          <p:cNvPicPr/>
          <p:nvPr/>
        </p:nvPicPr>
        <p:blipFill>
          <a:blip r:embed="rId1"/>
          <a:stretch/>
        </p:blipFill>
        <p:spPr>
          <a:xfrm>
            <a:off x="990720" y="2666880"/>
            <a:ext cx="71085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533520" y="53352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ffff"/>
                </a:solidFill>
                <a:uFillTx/>
                <a:latin typeface="Arial"/>
              </a:rPr>
              <a:t>Other Characteristics of a Good Dichotomous Ke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1. Try and make the choice a positive one – something “is” instead of “is not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4" descr="http://www.quia.com/files/quia/users/hlrbiology/Honors_Biology/10_Classification/dichotomous_key01.jpg"/>
          <p:cNvPicPr/>
          <p:nvPr/>
        </p:nvPicPr>
        <p:blipFill>
          <a:blip r:embed="rId1"/>
          <a:stretch/>
        </p:blipFill>
        <p:spPr>
          <a:xfrm>
            <a:off x="3352680" y="1905120"/>
            <a:ext cx="5562720" cy="46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Content Placeholder 1"/>
          <p:cNvSpPr/>
          <p:nvPr/>
        </p:nvSpPr>
        <p:spPr>
          <a:xfrm>
            <a:off x="457200" y="1295280"/>
            <a:ext cx="818676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Content Placeholder 1"/>
          <p:cNvSpPr/>
          <p:nvPr/>
        </p:nvSpPr>
        <p:spPr>
          <a:xfrm>
            <a:off x="0" y="0"/>
            <a:ext cx="3505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</a:rPr>
              <a:t>2. Both choices of a pair should be about the same attribute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</a:rPr>
              <a:t>If possible, start both choices of a pair with the same word, describing alternates of the same characteristic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</a:rPr>
              <a:t>3. Each pair of choices should be about a different attribu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2" descr="https://gcps.desire2learn.com/d2l/lor/viewer/viewFile.d2lfile/6605/17535/shark3.PNG"/>
          <p:cNvPicPr/>
          <p:nvPr/>
        </p:nvPicPr>
        <p:blipFill>
          <a:blip r:embed="rId1"/>
          <a:stretch/>
        </p:blipFill>
        <p:spPr>
          <a:xfrm>
            <a:off x="3352680" y="152280"/>
            <a:ext cx="5639040" cy="50547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4"/>
          <p:cNvSpPr/>
          <p:nvPr/>
        </p:nvSpPr>
        <p:spPr>
          <a:xfrm>
            <a:off x="3352680" y="5638680"/>
            <a:ext cx="5791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ffffff"/>
                </a:solidFill>
                <a:latin typeface="Arial"/>
              </a:rPr>
              <a:t>4. Try and use each attribute only onc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228600" y="380880"/>
            <a:ext cx="4343400" cy="64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5. Use measurements rather than terms like large/small, big/little or many/few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ffffff"/>
                </a:solidFill>
                <a:latin typeface="Arial"/>
              </a:rPr>
              <a:t>(Note: Comparisons with structures on the organism could also be used if measurements are not possible. Example: The tail is longer than the body.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6.Use constant characteristics, rather than ones that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5" descr="http://www.schools.ccps.k12.va.us/sites/HIGH/solquiz/Document%20Library/1/EOC07Biology/20.jpg"/>
          <p:cNvPicPr/>
          <p:nvPr/>
        </p:nvPicPr>
        <p:blipFill>
          <a:blip r:embed="rId1"/>
          <a:stretch/>
        </p:blipFill>
        <p:spPr>
          <a:xfrm>
            <a:off x="5181480" y="1066680"/>
            <a:ext cx="362772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Content Placeholder 1"/>
          <p:cNvSpPr/>
          <p:nvPr/>
        </p:nvSpPr>
        <p:spPr>
          <a:xfrm>
            <a:off x="457200" y="1295280"/>
            <a:ext cx="818676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Content Placeholder 1"/>
          <p:cNvSpPr/>
          <p:nvPr/>
        </p:nvSpPr>
        <p:spPr>
          <a:xfrm>
            <a:off x="0" y="685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When finishe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There should be one less step than there are total organisms to classif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11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3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15" descr="https://www.cinchlearning.com/clarity/cinch/glencoe_science_2012_texas/images/ebooks/sci7/201_2/sci_201_2_figure9.jpg"/>
          <p:cNvPicPr/>
          <p:nvPr/>
        </p:nvPicPr>
        <p:blipFill>
          <a:blip r:embed="rId1"/>
          <a:stretch/>
        </p:blipFill>
        <p:spPr>
          <a:xfrm>
            <a:off x="914400" y="2971800"/>
            <a:ext cx="74674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Content Placeholder 1"/>
          <p:cNvSpPr/>
          <p:nvPr/>
        </p:nvSpPr>
        <p:spPr>
          <a:xfrm>
            <a:off x="457200" y="1295280"/>
            <a:ext cx="818676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28600" y="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When using a key, keep the following in min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Content Placeholder 1"/>
          <p:cNvSpPr/>
          <p:nvPr/>
        </p:nvSpPr>
        <p:spPr>
          <a:xfrm>
            <a:off x="0" y="685800"/>
            <a:ext cx="9144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Always read both choices, even if the first seems to be the logical one at firs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Be sure you understand the meaning of the terms involved.  Do not gue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Lucida Sans Unicode"/>
              </a:rPr>
              <a:t>If the choice is not clear, for whatever reason, try both divisions.  If you end up with two possible answers, read descriptions of the two choices to help you deci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5" descr="http://www.saskschools.ca/curr_content/biology20/Library/dich_key_items.jpg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4"/>
          <p:cNvSpPr/>
          <p:nvPr/>
        </p:nvSpPr>
        <p:spPr>
          <a:xfrm>
            <a:off x="228600" y="304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2da2bf"/>
                </a:solidFill>
                <a:latin typeface="Arial"/>
              </a:rPr>
              <a:t>Let’s Practi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52280" y="4572000"/>
            <a:ext cx="87631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1) Examine the objects close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2) Write down some characteristics that are visi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3) Select one that roughly divides the group in hal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4) Use the other characteristics to develop the rest of your ke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3:44:58Z</dcterms:created>
  <dc:creator>Kate Ribbins</dc:creator>
  <dc:description/>
  <dc:language>en-US</dc:language>
  <cp:lastModifiedBy>Phillips, Sarah</cp:lastModifiedBy>
  <cp:lastPrinted>2015-02-02T16:23:40Z</cp:lastPrinted>
  <dcterms:modified xsi:type="dcterms:W3CDTF">2015-02-02T16:35:41Z</dcterms:modified>
  <cp:revision>88</cp:revision>
  <dc:subject/>
  <dc:title>Diversity of Living Things</dc:title>
</cp:coreProperties>
</file>